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FB0DD-0B68-47CB-8CE2-8A6037AFD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60BB3-8E9E-4EDC-ADF9-3003AF220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ED341-116E-4597-A96D-4981B242D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337BF-1280-4239-9EE8-7E39778F7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A026-FF75-4526-8712-8DF2E77F4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0A2B7-235D-4122-AC72-DF4352671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2C5DD-ABAA-45F2-AE13-EE24F0F1B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55C30-13CE-4723-B6E3-0EE0DC83C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0B252-042C-479F-A3C1-48919D408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6AB22-7FA5-46D2-97AD-B3DAA1222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5151-8934-4FC0-852B-B64F6ECD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E833-4B5A-4AF3-B85B-C50DC0C87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850C-5C4D-488D-9773-5EF97260D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1440000" cy="1440000"/>
          </a:xfrm>
          <a:prstGeom prst="rect">
            <a:avLst/>
          </a:prstGeom>
          <a:ln w="0">
            <a:noFill/>
          </a:ln>
        </p:spPr>
      </p:pic>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6b2</cp:lastModifiedBy>
  <dcterms:modified xsi:type="dcterms:W3CDTF">2012-06-19T11:02:36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